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0.pct" ContentType="image/x-pict"/>
  <Override PartName="/ppt/media/image9.pct" ContentType="image/x-pict"/>
  <Override PartName="/ppt/media/image1.pct" ContentType="image/x-pict"/>
  <Override PartName="/ppt/media/image4.png" ContentType="image/png"/>
  <Override PartName="/ppt/media/image15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6.pct" ContentType="image/x-pict"/>
  <Override PartName="/ppt/media/image11.pct" ContentType="image/x-pict"/>
  <Override PartName="/ppt/media/image7.jpeg" ContentType="image/jpeg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526-1E07-4DB5-8AD7-10F37608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EF5-12F4-4D7A-B74D-9E1CF71C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711-E184-46FA-A268-2789B61C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9D2-0BEF-414E-AA55-06654514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DFD-F7FF-48DF-B556-184E9867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DE9-67E1-4ADA-8E16-260256A6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EF6-BBFE-4EA3-A22D-2128DBEA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4EC-E7A2-4115-B2AD-BFADC76F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9EF-CA65-4F30-9F6A-CC2D18B4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A80-F5F5-4E61-8B8F-4035309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B4E-956A-45C8-9AC4-DF0557E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D8B-91A6-4CF8-88A9-1E0FF146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28E9-3908-43D4-A5AE-26448055E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bofoundry.org/ro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hyperlink" Target="http://www.obofoundry.org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yuri.lbl.gov:900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ybase.org/" TargetMode="External"/><Relationship Id="rId2" Type="http://schemas.openxmlformats.org/officeDocument/2006/relationships/hyperlink" Target="http://www.wormbase.org/" TargetMode="External"/><Relationship Id="rId3" Type="http://schemas.openxmlformats.org/officeDocument/2006/relationships/hyperlink" Target="http://www.yeastgenome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y-oriented databases: Chado and OB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Chad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developed for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GadFly (Berkeley) and previous FlyBas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later adopted by GMOD and other some individual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r amongst ‘newer’ MODs; eg Paramec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so used outside MOD commun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enalia Farm Research Campu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ightly Integr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trast with federated mod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e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modules can be ‘slotted in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modules are mandat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ntologies and terminologies for typ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y normali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dbxref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genomic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dentifiers: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bxref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l public records identified using bipartite sche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external cross-referen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B Authority must be specifi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t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n be associated with UR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db, accession, version[optional]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rds can also ge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bxref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:0000001, FlyBase:FBgn000000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650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 and terminologies are central to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- A formal representation of some portion of biological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: cv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GO DB Schema and OBO format spe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66880"/>
            <a:ext cx="3962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 term, or class in an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an ontology or terminolog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32320" y="3581280"/>
            <a:ext cx="47116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086600" cy="633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7240" y="312408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4120" y="2209680"/>
          <a:ext cx="3581280" cy="13352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_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omics: Sequence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key concepts (a subset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genomic entity (gene, intron, SNP, chromosome, .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lo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relative location in sequence coordina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relationshi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airwise relation between two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exon to transcrip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pro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g-value data for a fe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cv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-based anno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equ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quence ar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dependent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mbedded in feature 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features reside in same t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s, exons, chromosomes, SNPs, 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d using Sequence Ontology (S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ptional extra: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utomatically generat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QL view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1752480"/>
            <a:ext cx="1422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05144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s: the 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5410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 graphs (FG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dicates (types) are cv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 &amp; Model Organism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ics data in Chado using S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&amp; OBD Requir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and the semantic web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QL endpoi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: alternately spliced ge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7 featur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 ge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 transcrip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 ex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438156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505320" y="2057400"/>
          <a:ext cx="5029200" cy="242568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98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dic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457200" y="43434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sh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ypep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 configurations are constrained by S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termines ontological relations between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g: Exon part_of transcrip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ndard rules for 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is_a Y, Y part_of Z =&gt; X part_of 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e OBO Rel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obofoundry.org/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les must be encod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tandard relational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clarative programming: SQL Func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werful, but opt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tgreSQL on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be po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paration of interface from implem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quence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nscription,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duction of implicit features (eg intron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jection, mereological re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804320" y="5667480"/>
            <a:ext cx="78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ta S, Patel JM, Friedman JS, and Swaroo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larative querying for biological sequence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 of the 22nd International Conference on Data Engineering (ICD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ril 3-7, Atlanta, GA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phenotype (EQ)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FlyBase, ZFIN, Dict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evolutionary sci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collaboration with NESC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lpdesk (NESC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GMOD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fied Architecture for GMO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st Obo format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for post-composition of complex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CBO: OBO and OB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: Open Bi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obo.sourceforge.n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obofoundry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BioPortal; access 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D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DBP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 &amp; fish mutant phenotyp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king to dise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V Clinical trial analy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Storing biomedical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different from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 sco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of biology and biomedic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 for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minimum amount of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ternal data where appropri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nd use data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partially met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mantic web techn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emantic Web Datamode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DF tr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ch element is a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UR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ous serialisa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DF/X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3, N-Tr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ultiple APIs, QLs and storage op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Graphs constrain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ed in RDF Schema, OW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10080" y="457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 ‘Schema’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ontolog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95468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1880" y="4952880"/>
            <a:ext cx="29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OBO Foun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s OBO upper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mplementing OBD using SemWeb techn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es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rd party triplesto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or in-mem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acks native OWL sup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Q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ed at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use Chado methodology, co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plestore’ with extr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duces triple overhead with common patter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rapping databases as SPARQL endpoi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t of data in existing relational databases like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al: make available as distributed resour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in OBD compliant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lution: d2rq declarative mappings and SPARQ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gres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Database SPARQL endpoin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:9000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 and OBD mappings coming so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annotations through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ome dashboar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lational database schema for biological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 of the Generic Model Organism Database (GMOD) pro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www.gmod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operable tools for Model Organism Datab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built for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5915160" cy="350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54100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4100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6386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6386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156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080" y="5851440"/>
            <a:ext cx="16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/ph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5800" y="646128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000" y="62485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952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2578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1055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2640" y="381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scenario: AJAX Gbrowse (http://genome.biowiki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120" y="1600200"/>
            <a:ext cx="3962160" cy="32004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1219320"/>
            <a:ext cx="1447560" cy="685800"/>
          </a:xfrm>
          <a:prstGeom prst="wedgeRectCallout">
            <a:avLst>
              <a:gd name="adj1" fmla="val -46050"/>
              <a:gd name="adj2" fmla="val 5671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1752480"/>
            <a:ext cx="2286000" cy="327672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43400" y="2666520"/>
            <a:ext cx="304920" cy="25146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86040" y="1828440"/>
            <a:ext cx="1066680" cy="34290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116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0080" y="45720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A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88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240" y="41911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lexible hypernormalized sche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penal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o much freedom express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ies + reasoners provide some constraints; eg 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 world assump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ederation vs tight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ht integration is required for MO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 more data types become available dynamic integration will be k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DF and SPARQL is one solu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icole Washingt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th Carb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ohn Day Rich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ris Smi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aren Eilbe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a Mis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812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ul Leyla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lliam Gelba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HM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, N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hel 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ic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erra Mo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rew Uzi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ian Osb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an Ho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16360" y="2909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localis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terba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plifies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localisations rela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ocation Grap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L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ursive/nested locations allow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35440" cy="166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165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ursive location graph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s can be n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ed genomes typically fla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pth(LG)=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finished genomes, heterochromatin may require 2 (rarely more) level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eatures located relative to conti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igs related relative to chrmoso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y be a requirement to change coordinates at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sted LG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2743200"/>
          <a:ext cx="7238880" cy="1306440"/>
        </p:xfrm>
        <a:graphic>
          <a:graphicData uri="http://schemas.openxmlformats.org/drawingml/2006/table">
            <a:tbl>
              <a:tblPr/>
              <a:tblGrid>
                <a:gridCol w="1824120"/>
                <a:gridCol w="1824120"/>
                <a:gridCol w="2371680"/>
                <a:gridCol w="121896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rc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.2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000..130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100..131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463400" y="5008680"/>
            <a:ext cx="66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localisations can be used to ‘flatten’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&gt;0 indicates denormalised/flattened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 be recalculated if group=0 coordin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featureloc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lation between two or more lo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ches, sequence vari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icated using rank colum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case: SNP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ple way to query for variants introducing premature termination of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bine relational featurelocs and redundant featurelo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3+ featureloc pair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quence of SNP on reference and variant genome (+ location on referenc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transcrip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polypeptid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WL entailment genomics use c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fines ‘TE gene’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SO:gene which is part_of a SO: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OW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ass(TE_Gene complete Gene part_of(TE)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ueries for ‘SO:TE_gene’ return features not explicitly annotated as su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are: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valent rules to be add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greSQL function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edit reasoner adapter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brief introduction to M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Model Organism Datab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D melanogaste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C elegan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GD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M muscul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a MOD organisation d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e and integrate data on a specific species or tax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 web portal for the commun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database requirements for a MOD?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372280" cy="4317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representations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omic ent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quence dat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on-intron struc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ncoding g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ed and computed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ntities with unusual transcriptional proper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more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other data types pertinent to that organis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luding, but not limited to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tic and phenotyp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orities amongst MODs diff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ent MOs have different biological and experimental characteristic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 melanogas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genetic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197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house rich annotation data using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ntologi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(Gene Ontology); Anatomical Ontologies;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94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track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provena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for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 data is often curated from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 sour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u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High throughput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4952880"/>
            <a:ext cx="3200400" cy="1676160"/>
            <a:chOff x="685800" y="4952880"/>
            <a:chExt cx="3200400" cy="16761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56360" y="4952880"/>
              <a:ext cx="2939400" cy="15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85800" y="5476680"/>
              <a:ext cx="3200400" cy="1082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6360" y="5507280"/>
              <a:ext cx="2916000" cy="112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be an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ntegrated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source of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ust drive Web Port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ly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worm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yeastgenom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s out to external resour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, Ensembl, UniProt, 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stantial amount of records manag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 single integrated data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Mungall</cp:lastModifiedBy>
  <dcterms:modified xsi:type="dcterms:W3CDTF">2006-11-16T16:33:02Z</dcterms:modified>
  <cp:revision>146</cp:revision>
  <dc:subject/>
  <dc:title>Chado: evolution of a biological database LONG VERSION</dc:title>
</cp:coreProperties>
</file>